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1FAB-216D-4148-98F3-78D74B1BA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3768-D323-48DA-A0E9-EFEE8B13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BB5B-10D7-4228-892A-C3D5B591A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4C77-C3DD-40AD-B143-7745431A4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01DB-41D2-4918-8460-22866162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0907-6276-45C1-AC81-FCCF84E6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946E-1E7E-403D-9019-EC82501E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4C41-B292-498B-80B6-F43D8856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CC83-23BA-4D14-9B1D-F5573E14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BDC9-3FFE-44B7-894A-7F3D38A3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88C0-6B1E-4581-8AF2-C7BA61D2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EA84-8AE7-42B6-9D73-A9F47D63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73AB-7AD1-486C-A1D2-2D044C832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5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article “Agenda for Hartford in 2011” in no more than 12 minu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end of the 12 minutes, be able to summarize the main idea of the article in 3 minu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the following two questions in no more than 10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third paragraph that starts “This points to what Hartford…” what do you think the author means by “the city’s social and fiscal problems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going well in Hartford schools, and what must continue for further improvemen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2:48:55Z</dcterms:created>
  <dc:creator>Administrator</dc:creator>
  <dc:description/>
  <dc:language>en-US</dc:language>
  <cp:lastModifiedBy>Administrator</cp:lastModifiedBy>
  <dcterms:modified xsi:type="dcterms:W3CDTF">2011-01-24T02:49:15Z</dcterms:modified>
  <cp:revision>1</cp:revision>
  <dc:subject/>
  <dc:title>Slide 1</dc:title>
</cp:coreProperties>
</file>